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14E-A66E-4B82-9F8B-0C1284BE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29E-C950-4424-9F78-6B9006E2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DF2-432E-4ACE-831F-B7AD79BF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FD7-0CFB-46E7-97BA-454318C9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F889-4E1F-4B4B-9DE2-7C49FC14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4CB4-0455-4264-A1AB-3ED8A412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D978-3F04-4201-8169-744D2AD6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A400-094F-4B00-AB40-10B7E3E6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EC8B-6B42-4FEF-94A6-320B2DAB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31EA-21FD-44E6-A6D5-4B7BB701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9008-E76F-491D-803C-5749DB7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FE8-9138-4946-9C3C-E0836F08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7712-EBD7-4EE0-9801-1784EEC5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4D59-AB05-46E2-9A54-1808BE5A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3C87-2EFA-41CB-9AFF-29209544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0A11-E324-40DB-8850-E33EEC67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C396-B93A-4395-9BD8-D8610B09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8C9-F747-497A-90A7-159C50CD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380-1DD6-4EE7-B38E-9B8DD810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C6A-2810-4DAB-9AA0-64E88104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E29-49C8-4C30-8CB5-972AA349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C8F-DC77-4E3A-B057-C1D1974F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9B4-A75D-41ED-B510-F8402463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577-6B5E-4294-99C4-292B835D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3020-EC23-4026-988F-BCF47C707EE0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6722-85B9-4E28-8320-D9B834FA793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TO EFFECTIVE NOTE T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Lecture Not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breviate the following lines so they still make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8928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when people stopped being nomadic.  With the beginning of widespread farming, people began to live in permanent villages, towns and 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by a combination of many factors, including the creation of a complex government and religion, a working economy, the development of art and technology and the creation of a stratified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 played an essential role in the development of societies, as natural features often determined where people set up permanent societie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457200"/>
            <a:ext cx="6019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175248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4864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60880" y="1889280"/>
            <a:ext cx="534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settlements the start of civil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need: gov’t, religion, economy, art, tech.,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. very imp. in creating civi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summarize the previous no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nswer: Civilizations started when people stopped traveling and created permanent settlements and complex social and governmental institutions.  Geography played a key role in how civilizations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C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8892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I know if what the teacher says is importan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on or stressed in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gets louder/softer or faster/s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on the board or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be on the te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 (hand/arm mov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importa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rnell No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of taking notes that helps students understand material by putting it in thei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organiz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help students study more eff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for students to control their learning by understanding, thinking about and evaluating what they’v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teps of Cornell note ta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Identify importan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Determine relationships among items and generate questions that represent thes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Summarize the information in you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your name, date, class and period in the upper right hand corner (see ab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topic of the notes (ex. Ancient China, Islam, etc.) in the top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304920"/>
            <a:ext cx="9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05120"/>
            <a:ext cx="53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horizontal line about five lines up from the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vertical line down the page about one third of the distance from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889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questions (after completion of no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words an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dates/people/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/stress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/brainstorming written on board/overhead proj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rom textbook/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nd 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88928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do the achievements of early Chinese civilization say about what they felt was importa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Chinese ideas  about government impact their civiliz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geography help shape early Chinese civilizatio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s: silk making, the first book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 Ching, The Book of Song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: Feudal system, stratified society, dynastic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: isolated from other civilizations; led them to believe that China was the center of the earth and source of civilization (ex. “Middle Kingdom.”)  Development of flood control which led to strong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hat about the bottom of my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16002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33412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belongs in the bottom spac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review notes and write a summary in your own words about the main ide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for the teacher/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odles: down here they won’t get in the way of the important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41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hinese created one of the world’s earliest and most advanced civilizations.  Shaped by their ideas of government and diverse geography, they created a society that would have a large impact on other world cul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pful hints for straight A no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0880" y="1889280"/>
            <a:ext cx="534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brev., para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ymbols (arrows, circles, underlining) or highlighting to emphasize important ideas and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lines between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24 hours, review notes and develop additional study questions on the lef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9:30:32Z</dcterms:created>
  <dc:creator>Cedar Cove Productions</dc:creator>
  <dc:description/>
  <dc:language>en-US</dc:language>
  <cp:lastModifiedBy>KOLTOV</cp:lastModifiedBy>
  <dcterms:modified xsi:type="dcterms:W3CDTF">2007-09-04T19:00:31Z</dcterms:modified>
  <cp:revision>6</cp:revision>
  <dc:subject/>
  <dc:title>No Slide Title</dc:title>
</cp:coreProperties>
</file>